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5F9-4772-4557-A4EE-029B86A3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99A-4558-4246-8CA2-CAF6F0DB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F40-C7A8-473B-9E5D-EE81204D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FF0-1DCA-47D7-AB18-754DDDB1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19D-884B-418F-A9A6-F567A927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CCD-32D6-422B-80D3-BCC47054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6D4-1225-494F-BB2A-A223C41D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2F6-4A16-41AC-A0B1-69F89D67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36D-205D-4DEF-9F6B-1AE67DE8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85A-483B-4F2E-9433-CC3B94D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EAE-0003-40A2-9453-4D25AB8E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C66-0398-4BF3-807C-4B00D103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118-5475-41ED-875C-1267DA49F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Gant and Megan Rob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4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lp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62320" y="1143000"/>
            <a:ext cx="4114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ndale Sans for VST"/>
              </a:rPr>
              <a:t>German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ndale Sans for VST"/>
              <a:ea typeface="Andale Sans for VS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stellar"/>
              </a:rPr>
              <a:t>Safety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stellar"/>
              </a:rPr>
              <a:t>Please keep all hands, feet and other objects in the vehicle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stellar"/>
              </a:rPr>
              <a:t>Please enjoy the show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nes of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s of the flag of Germany are Black-gunpowder, Red-Blood, and Yellow-the flame of the Golden g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is located next to France, Poland, the Czech Republic, Belgium, Netherlands, Austria, and a couple of other countries. It is also bordering the North Sea, and the Baltic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616040"/>
            <a:ext cx="3581280" cy="21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40560" y="3938760"/>
            <a:ext cx="185256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Ber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Berlin is the capital of Germ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Has around 3,465,700 people in the 1994 est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Every year has a love parade with techno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4960" y="2139840"/>
            <a:ext cx="2419560" cy="2419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91320" y="49528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ck exchange in Berlin, Germ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86400" y="3886200"/>
          <a:ext cx="32781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886200"/>
                    <a:ext cx="32781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Physical Features and Reli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an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lack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Alps (Bavar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Taunus M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Saale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Weser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Rhine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Elbe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2286000" cy="1500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52680" y="281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nub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1219320"/>
            <a:ext cx="3505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91=G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2.4=Turk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6.1=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38=prote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34=roman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1.7=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26.3=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819520" y="4114800"/>
            <a:ext cx="2781360" cy="186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1460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est church in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Fast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Currency: The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Sport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Field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Track and fiel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Tennis and Soc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Guten Tag ! (good da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76920" y="4038480"/>
            <a:ext cx="350496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114800" cy="228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Economy and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Germany’s economy is the third largest in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They have cars that we buy in the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Example: The Audi,BMW,Mercedes Benz, Porsche, Volksw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Because they have a lot of factories in Germany pollution is dangerous. Some beaches you can’t even go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Language:95% is German , Turkish ,Italian, Serbo-Croatian ,Kurd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4419720"/>
            <a:ext cx="2600280" cy="1447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9548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A beach in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elix Titling"/>
              </a:rPr>
              <a:t>Today in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They wear clothes like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They celebrate holidays like Erntedankfest, Christmas, Halloween, St. Nikolaus Day, St. Valentine'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Felix Titling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eat fish and apples and onions as one of their main dishes.</a:t>
            </a:r>
            <a:r>
              <a:rPr b="0" lang="en-US" sz="2800" spc="-1" strike="noStrike">
                <a:solidFill>
                  <a:srgbClr val="000000"/>
                </a:solidFill>
                <a:latin typeface="Felix Titl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As one of their desserts Chocolate C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05120" cy="43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68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68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6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ernard MT Condensed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Germany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 ,Jean F. Blashfield, al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Germany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 ,Jim Hargrove, al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Germany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 ,Richard Lord, al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Germany ABCs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 ,Sarah Heiman, al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ttp://www.germanculture.com.ua/library/links/holiday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98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98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98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98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8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4:34:11Z</dcterms:created>
  <dc:creator>meganroberts</dc:creator>
  <dc:description/>
  <dc:language>en-US</dc:language>
  <cp:lastModifiedBy>meganroberts</cp:lastModifiedBy>
  <dcterms:modified xsi:type="dcterms:W3CDTF">2009-02-12T13:47:01Z</dcterms:modified>
  <cp:revision>9</cp:revision>
  <dc:subject/>
  <dc:title>Slide 1</dc:title>
</cp:coreProperties>
</file>